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76E-C19B-448D-ABF6-734F9237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A841-894B-4FE6-A26F-2BF3C69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3E13-09F7-4276-81BE-B455C139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552B-619C-47B1-99E8-6A74F8EF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BEC5-97C4-4E90-B7D4-492B6447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5E29-EF4F-40D2-8412-E7F42DE0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7ECF-C4F4-46B7-9CFD-D51FFE52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ADF2-C4E1-41A2-A806-23A392F0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8DBA-68A6-4B3B-A12E-91E3DACE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AF31-85C5-4CCD-8264-1B71CE80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5C11-BDF4-4C77-917B-E96B5282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F08-4D2A-48CD-AD5E-2DBDF1EA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B4A6-2F87-4AF1-9C76-3C3F706D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56ED-3DCF-4B02-AAF0-4ABDB0A8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E3E7-7347-4379-A71C-EA63D1ED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05C9-112F-4C41-A62D-C7A2BF75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AF3D-604A-416F-8C77-0D6B19E1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3A4-D618-4B38-BB42-8A1600E7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DA4-5C06-403C-A228-C0C95026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8F8-613E-4DBA-A85A-6B4F4483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5B1D-4151-461E-A878-73D97472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35C-B8AC-434C-A577-B0BED3C8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F770-396A-4674-9E0F-DDE61B43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9E1-D30D-42FB-908D-1E6A63D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5579-B983-400A-8115-248B452A48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FC94-236D-4FD5-A4E4-46FA504024A6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Profbilet"/>
          <p:cNvPicPr/>
          <p:nvPr/>
        </p:nvPicPr>
        <p:blipFill>
          <a:blip r:embed="rId1"/>
          <a:stretch/>
        </p:blipFill>
        <p:spPr>
          <a:xfrm>
            <a:off x="6172200" y="3200400"/>
            <a:ext cx="2344680" cy="33764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190440" y="767880"/>
            <a:ext cx="856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«Профсоюзы – честь страны,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в их рядах мы быть должны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7" name="Picture 10" descr="profsouz2017"/>
          <p:cNvPicPr/>
          <p:nvPr/>
        </p:nvPicPr>
        <p:blipFill>
          <a:blip r:embed="rId2"/>
          <a:stretch/>
        </p:blipFill>
        <p:spPr>
          <a:xfrm>
            <a:off x="1371600" y="3200400"/>
            <a:ext cx="36576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8-11-23T03:14:2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