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0525-B7B6-41C3-8D74-37E39FB948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A426-9636-4ECB-8AC3-1575A9DF57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F050-BCED-4235-A1EE-4615D38956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04CF-4990-4FCA-87A9-9E61C10EC1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02D1-70F5-4BB6-AB32-EF3AC0E6FC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F958-C167-46DC-AD37-3339158BFCF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7D0C-B49E-4C23-9153-1289AB72C9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B59B-B668-40AC-AF3E-38B01992DC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5349-ACC7-4B68-BD35-F99A4F45B8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FD99-906F-4705-8127-84CBFDC668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0BC9-00FD-47F3-8F2E-D2B6B07BA5A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5F2A-50A2-4F16-89AC-29C051C3D8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5A35-2991-4033-A4C9-39E46EF5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F9A-644E-4A2D-BC15-4F354BC6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8D5-A0B8-4E05-9B3B-0354A775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D7E-847F-4DEC-BF47-2644867D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A65E-8AA2-4A5B-9630-B4FC1FCB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4D14-A797-4F99-BCED-FCCD725B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BFE8-CCAD-4380-9714-A4C523AF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AA37-B1A9-4982-AB94-7C494D9F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2254-0757-4B8B-A38D-CFB9F99D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F8EC-6218-4FD3-9542-D2667378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DF06-D7D9-4F0A-8951-59EF1C0A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78F-DB9B-43DF-BB8F-E1D9F6D2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3238-1E31-4986-8566-CA3280A0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176F-62BA-4459-BBCA-0042822E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1208-2247-4B66-BC94-1FD965AD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659FE-9416-4709-AFB7-6F7998CD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1B1E-0192-418B-AB90-1BB95B7B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019ED-4D2E-4CDD-9CB3-0C309DB0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98C6-27C5-4E81-B5EF-44029434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3804-459F-420A-8653-A4A2C732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39738-6DB1-44EB-BC3E-DC2B6B98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47BF-E52F-4278-A189-B946B675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DDF-B221-43C7-81A1-0293EBB3F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D51BB-B563-44B4-9800-E737FA15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3088-D5EB-45A4-B20E-CE367C68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2A166-3DD8-4B69-9579-521F2BAA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2F3B4-1F19-4CC4-A0F9-98D8A72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57647-3254-44F1-85E4-886350A6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29BEF-960E-42F4-AC99-C9FF4FB2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86657-1AAB-4554-91AE-A3FCBDDE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2B6C4-2FE9-4E7E-B6B4-AC70C207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9BB6D-A10C-44CE-B22D-EE64D05F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F5953-196D-4B6F-A30C-AF506564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1DE-43EA-436D-A38B-8E3B5A90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7BC9-AA72-4451-ADF6-D4F0971D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7B68A-2D89-4603-9209-5888FAC09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55D96-9524-4007-A1FD-6FD154D5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C395-7D32-4284-B144-5A984F2C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E7728-4747-459C-BED0-83A26E10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D17EF-18BF-4E78-9515-D47EC4BF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B90C6-D6FC-46DA-90AB-F7367DBF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9072-5D86-4843-A2A5-E4C0DEFE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A20FA-4CDA-4150-AABB-CE9894D1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E8E77-B758-434D-B8F1-02D14CB0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8BF-9284-4E47-B769-631CC03E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0C1AB-7B23-49D1-9BF7-EE7FDCD8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9FAD6-DDDE-433F-A48A-83D0D884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DE07C-8AF4-4643-88B9-97220AE5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BBE8F-9E61-4F90-86A8-155EE089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FDEDA-5F33-4715-843E-327BE60D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15039F-9A0D-4B31-A8CA-1833E81B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93BFC-4D8E-4BB5-B700-EB20C98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FFE78-8BE3-457F-802C-1596F172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CA88F-E80A-493A-BF5F-D8925486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27768-FF59-49FA-89FC-E4E89188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3AA-B97F-4021-A088-55EB36B1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44C30-639F-444C-BA97-94CABCEA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B3E-013E-40BD-916A-EEBD5A4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21A-9715-457A-BC0F-1C12CA88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AA0-B8CE-4214-9C5F-915C1873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1C56-E1DE-4FEE-A7C8-1D1ABCC386E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FC7E-40F9-4DFC-ABBD-1C52F8C121B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74A8-E8F8-48A9-8621-1AF54F862DA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8B4E-751A-449C-9223-FC89C6FC469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65BC-0119-4133-AE6F-3DD8ED54C8F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785196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1b587c"/>
                </a:solidFill>
                <a:latin typeface="Verdana"/>
              </a:rPr>
              <a:t>Профсоюзное движение</a:t>
            </a:r>
            <a:br>
              <a:rPr sz="5400"/>
            </a:b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10920" y="36450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ые права несовершеннолетни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581360"/>
            <a:ext cx="8183520" cy="14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8d3e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ff8d3e"/>
                </a:solidFill>
                <a:latin typeface="Verdana"/>
              </a:rPr>
              <a:t>История профсоюза работников </a:t>
            </a:r>
            <a:br>
              <a:rPr sz="2800"/>
            </a:br>
            <a:r>
              <a:rPr b="1" i="1" lang="ru-RU" sz="2800" spc="-1" strike="noStrike">
                <a:solidFill>
                  <a:srgbClr val="ff8d3e"/>
                </a:solidFill>
                <a:latin typeface="Verdana"/>
              </a:rPr>
              <a:t>            просвещения России</a:t>
            </a:r>
            <a:br>
              <a:rPr sz="32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1922 -1934 гг. – Профсоюз работников просвещения РСФС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вгуст 1957 год – Профсоюз работников просвещения СССР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27 сентября 1990 года – Профсоюз работников народного образования и науки РФ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За что борются профсоюзы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Экономику, обеспечивающую достойную жизнь всем на базе достойного труда;                                                                                                                           2. Достойную заработную плату и эффективную занятость;              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3. Развитие системы социального страхования, социального и пенсионного обеспечения, социальных услуг;                                                                                  4. Безопасное рабочее место;                                                                                     5. Соблюдение трудовых прав работником, уважение их интересов;              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6. Развитие социального партнёрства, как действенного инструмента, формирование условий эффективного труда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Вывод: профсоюзы выступают за достойный и безопасный тру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Профсоюзный контрол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83000"/>
          </a:bodyPr>
          <a:p>
            <a:pPr marL="226440" indent="-226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олномочия профсою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440" indent="-226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регулирование трудовых спор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440" indent="-226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я и проведение забастовок, митингов, собрани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440" indent="-226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уществление контроля за соблюдением трудового законодательства (создание правовых и технических инспекций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440" indent="-226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дение экспертизы условий труд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440" indent="-226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 прав интересов по условиям возмещение ущерб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6440" indent="-226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 в соответствующие органы с требованием о привлечении к ответственности лиц, виновных в нарушении закон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10920" y="1828800"/>
            <a:ext cx="838044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Verdana"/>
              </a:rPr>
              <a:t>ТРУДОВОЕ ЗАКОНОДАТЕЛЬСТВО </a:t>
            </a:r>
            <a:br>
              <a:rPr sz="4600"/>
            </a:br>
            <a:r>
              <a:rPr b="1" lang="ru-RU" sz="4600" spc="-1" strike="noStrike">
                <a:solidFill>
                  <a:srgbClr val="ffff00"/>
                </a:solidFill>
                <a:latin typeface="Verdana"/>
              </a:rPr>
              <a:t>И НЕСОВЕРШЕННОЛЕТНИЕ</a:t>
            </a:r>
            <a:endParaRPr b="1" lang="en-US" sz="4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Verdana"/>
              </a:rPr>
              <a:t>Поступление на работу</a:t>
            </a:r>
            <a:br>
              <a:rPr sz="4800"/>
            </a:br>
            <a:r>
              <a:rPr b="1" lang="ru-RU" sz="4800" spc="-1" strike="noStrike">
                <a:solidFill>
                  <a:srgbClr val="003300"/>
                </a:solidFill>
                <a:latin typeface="Verdana"/>
              </a:rPr>
              <a:t>ст.266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07792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2000"/>
          </a:bodyPr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все лица моложе 21 года принимаются на работу только после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обязательного предварительного медицинского осмотра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работники в возрасте до 18 лет подлежат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ежегодному медицинскому осмотр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9992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Verdana"/>
              </a:rPr>
              <a:t>Запреты </a:t>
            </a: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Verdana"/>
              </a:rPr>
              <a:t>на отдельные виды работ</a:t>
            </a: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Verdana"/>
              </a:rPr>
              <a:t>ст. </a:t>
            </a:r>
            <a:r>
              <a:rPr b="1" lang="ru-RU" sz="3600" spc="-1" strike="noStrike">
                <a:solidFill>
                  <a:srgbClr val="0033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003300"/>
                </a:solidFill>
                <a:latin typeface="Verdana"/>
              </a:rPr>
              <a:t>265, 268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тяжелые рабо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редные рабо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асные рабо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одземные рабо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ночные рабо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верхурочные работ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аботы, причиняющие вред нравственному развити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аботы, связанные с полной материальной ответственностью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аботы, выполняемые с длительной отлучкой из места постоянного прожи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99920"/>
            <a:ext cx="82296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Verdana"/>
              </a:rPr>
              <a:t>Ограничения в переноске тяжестей  ст. 265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543040"/>
            <a:ext cx="8229600" cy="3324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едельно допустимая норма при поднятии тяже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9900"/>
                </a:solidFill>
                <a:latin typeface="Verdana"/>
              </a:rPr>
              <a:t>10 кг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одростки до 18 лет ни при каких условиях не должны приниматься на работы, заключающиеся исключительно в переноске тяже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07552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Verdana"/>
              </a:rPr>
              <a:t>Нормы труда</a:t>
            </a:r>
            <a:br>
              <a:rPr sz="3600"/>
            </a:br>
            <a:r>
              <a:rPr b="1" lang="ru-RU" sz="3600" spc="-1" strike="noStrike">
                <a:solidFill>
                  <a:srgbClr val="003300"/>
                </a:solidFill>
                <a:latin typeface="Verdana"/>
              </a:rPr>
              <a:t>для несовершеннолетних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250560" y="1484280"/>
            <a:ext cx="8667720" cy="4718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8000"/>
          </a:bodyPr>
          <a:p>
            <a:pPr marL="259560" indent="-259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Verdana"/>
              </a:rPr>
              <a:t>Ст. 92</a:t>
            </a:r>
            <a:r>
              <a:rPr b="0" lang="ru-RU" sz="2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а)для работников в возрасте до 16 лет – 24 часов в недел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б)для работников в возрасте от 16 до 18 лет – 36 часов в недел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Verdana"/>
              </a:rPr>
              <a:t>Ст. 9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одолжительность ежедневной работы не может превыш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а)для работников в возрасте от 15 до 16 лет – 5 часов, в возрасте от 16 до 18 лет – 7 ча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б)для учащихся ОУ, ОУ начального и среднего профобразования, совмещающих в течение учебного года учебу с работой, в возрасте от 14 до 16 лет – 2,5 часа, в возрасте от 16 до 18 лет – 3,5 час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3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3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Verdana"/>
              </a:rPr>
              <a:t>Отпуска, предоставляемые несовершеннолетни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8600" y="1641240"/>
            <a:ext cx="8686800" cy="4454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Verdana"/>
              </a:rPr>
              <a:t>Ст. 12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ежегодный оплачиваемый отпус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аботникам в возрасте до 18 лет – право на использование отпуска за первый год работы может быть предоставлен до истечения 6 месяц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Verdana"/>
              </a:rPr>
              <a:t>Ст. 26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работникам моложе 18 лет ежегодный оплачиваемы отпуск устанавливается продолжительностью не менее 31 календарного дня и может быть использован </a:t>
            </a:r>
            <a:r>
              <a:rPr b="0" i="1" lang="ru-RU" sz="2400" spc="-1" strike="noStrike">
                <a:solidFill>
                  <a:srgbClr val="e3ded1"/>
                </a:solidFill>
                <a:latin typeface="Verdana"/>
              </a:rPr>
              <a:t>в любое удобное для них время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5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уд несовершеннолетних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« Согласно всероссийскому опросу Фонда «Общественное мнение» 34% опрошенных заработали свои первые деньги в возрасте до 15 лет, ещё 44% - с 15-17 лет, 11% начали зарабатывать в 18 лет и лишь 10%  в 19 лет и старш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Если в сфере услуг и предпринимательства молодёжь уже сегодня составляет значительный процент работающих, то  в социальной бюджетной сфере и сфере государственного муниципального управления доля молодых работников невелика. И очень важно, чтобы молодые люди, придя на работу в организацию любой формы собственности, знали и умели реализовать свои права!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Цель занятия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ирование социальных компетенций, необходимых участнику отношений на рынке тру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зация дальнейших жизненных планов, профессионального самоутверждения, карьерного рос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Verdana"/>
              </a:rPr>
              <a:t>Оплата труда несовершеннолетних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85800" y="206028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Заработная плата лиц, моложе 18 лет, при сокращенной продолжительности рабочего времени выплачивается в полном объем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Verdana"/>
              </a:rPr>
              <a:t>Исключение (Ст. 27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труд учащихся общеобразовательных школ, лицеев, работающих в свободное от учебы время, оплачивается пропорционально отработанному времени или в зависимости от нормы вырабо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7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-летний слесарь Максим опоздал на работу. Директор завода попросил Максима написать объяснительную записку и объявил ему выговор в приказе. Максим объяснительную записку не написал, но и с объявленным выговором не согласился. По мнению Максима, он, как несовершеннолетний, не должен подлежать дисциплинарным наказаниям за мелкие дисциплинарные проступ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в ли Макси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6000"/>
          </a:bodyPr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совершеннолетний Волков устроился на работу на предприятие «Луч». Он заключил трудовой договор, куда с его согласия было включено условие об испытательном сроке продолжительностью 3 месяца. По окончании трудового срока Волкова уволили, признав результаты испытания неудовлетворительны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Verdana"/>
              </a:rPr>
              <a:t>Правомерно ли увольнение Волкова? Почем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«Права и обязанности 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 несовершеннолетних»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2000"/>
          </a:bodyPr>
          <a:p>
            <a:pPr marL="250920" indent="-25092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сли вы согласны с утверждением, то напишите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«Да»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, если не согласны –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«Нет»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 период трудовой деятельности несовершеннолетнего работника допускается замена ежегодного оплачиваемого отпуска денежной компенсацией  _______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Запрещается несовершеннолетних вызывать в ночную смену и  в выходные дни _______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Разрешён труд несовершеннолетних в шахте ______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Работники моложе 18 лет не могут направляться в служебные командировки ______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Работникам, обучающимся в вечерних (сменных) общеобразовательных учреждениях, за время освобождения от работы выплачивается 50% среднего заработка по основному месту, но не ниже минимального размера оплаты труда  _______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рганизация имеет право устанавливать для несовершеннолетнего испытательный срок ___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Если договор заключается впервые, то организация не обязана оформить подростку трудовую книжку и свидетельство государственного пенсионного страхования  ______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рофсоюзы – добровольное общественное объединение граждан, связанных общими производственными, профессиональными интересами  по роду их деятельности, создаваемое в целях представительства и защиты их социально-трудовых прав и интересов  ______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0920" indent="-2509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собенности регулирования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труда несовершеннолетн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собенности трудовых отношений с несовершеннолетни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Не устанавливается испытательный сро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Не привлекаются к сверхурочным работа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тпуск в любое время по заявлению работни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тпуск – 31 день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Не допускается отзыв из отпуск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одолжительность рабочего времен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А) С 18 лет – 40 час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Б) С 16 до 18 лет – 36 часов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) до 16 лет – 24 час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Г) Учащиеся образовательных учреждений – 12 ча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1720" indent="-26172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Льготы несовершеннолетних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Льготы несовершеннолетним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Обязательный предварительный и ежегодный медосмотр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Квотирование мест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Учебный отпуск в любое врем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Расторжение договора по инициативе работодателя с согласия трудовой инспекции и КД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рещён труд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На вредном и опасном производстве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Подземные работы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Связанный с перенесением и передвижением тяжестей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В ночное врем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Длительные командировк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В выходные и праздничные дн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>
              <a:lnSpc>
                <a:spcPct val="80000"/>
              </a:lnSpc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Могущий причинить нравственный вред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адание на урок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Определите роль профсоюзов в защите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Verdana"/>
              </a:rPr>
              <a:t>прав трудящихс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Урок,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оторый поможет в жизни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слов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ловек создан для труда (осетинска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Счастье в воздухе не вьется – оно трудом дается                                          (персидска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9b268"/>
                </a:solidFill>
                <a:latin typeface="Verdana"/>
              </a:rPr>
              <a:t>Всякая работа мастера хвалит  (русская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4.   «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Труд в наше время – это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великое право и великая  обязанность»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Verdana"/>
              </a:rPr>
              <a:t>Виктор Гюго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Статья 37 Конституции РФ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Труд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990720" y="2362320"/>
            <a:ext cx="1828800" cy="83808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3232"/>
                </a:solidFill>
                <a:latin typeface="Times New Roman"/>
              </a:rPr>
              <a:t>свобо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609480" y="41911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3232"/>
                </a:solidFill>
                <a:latin typeface="Times New Roman"/>
              </a:rPr>
              <a:t>оплачив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6"/>
          <p:cNvSpPr/>
          <p:nvPr/>
        </p:nvSpPr>
        <p:spPr>
          <a:xfrm>
            <a:off x="3352680" y="5029200"/>
            <a:ext cx="3048120" cy="106668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232"/>
                </a:solidFill>
                <a:latin typeface="Times New Roman"/>
              </a:rPr>
              <a:t>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232"/>
                </a:solidFill>
                <a:latin typeface="Times New Roman"/>
              </a:rPr>
              <a:t>на разре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232"/>
                </a:solidFill>
                <a:latin typeface="Times New Roman"/>
              </a:rPr>
              <a:t>сп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3886200" y="3124080"/>
            <a:ext cx="1828800" cy="76212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3232"/>
                </a:solidFill>
                <a:latin typeface="Times New Roman"/>
              </a:rPr>
              <a:t>безопас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6553080" y="396252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232"/>
                </a:solidFill>
                <a:latin typeface="Times New Roman"/>
              </a:rPr>
              <a:t>пра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23232"/>
                </a:solidFill>
                <a:latin typeface="Times New Roman"/>
              </a:rPr>
              <a:t>на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9"/>
          <p:cNvSpPr/>
          <p:nvPr/>
        </p:nvSpPr>
        <p:spPr>
          <a:xfrm>
            <a:off x="6553080" y="2057400"/>
            <a:ext cx="1981440" cy="6858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3232"/>
                </a:solidFill>
                <a:latin typeface="Times New Roman"/>
              </a:rPr>
              <a:t>доброво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ботникам фабрики «Звезда» в течение четырех месяцев не выплачивают заработную плату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кой принцип трудового права в данном случае нарушен работодателем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стойный тру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Oval 13"/>
          <p:cNvSpPr/>
          <p:nvPr/>
        </p:nvSpPr>
        <p:spPr>
          <a:xfrm>
            <a:off x="3124080" y="2057400"/>
            <a:ext cx="3124440" cy="12952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йны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4"/>
          <p:cNvSpPr/>
          <p:nvPr/>
        </p:nvSpPr>
        <p:spPr>
          <a:xfrm>
            <a:off x="5943600" y="3276720"/>
            <a:ext cx="2971800" cy="190476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15"/>
          <p:cNvSpPr/>
          <p:nvPr/>
        </p:nvSpPr>
        <p:spPr>
          <a:xfrm>
            <a:off x="228600" y="3276720"/>
            <a:ext cx="3124080" cy="198108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овы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альных п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6"/>
          <p:cNvSpPr/>
          <p:nvPr/>
        </p:nvSpPr>
        <p:spPr>
          <a:xfrm>
            <a:off x="3048120" y="4419720"/>
            <a:ext cx="3200400" cy="182880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"/>
          <p:cNvSpPr/>
          <p:nvPr/>
        </p:nvSpPr>
        <p:spPr>
          <a:xfrm flipH="1">
            <a:off x="2666880" y="297180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1"/>
          <p:cNvSpPr/>
          <p:nvPr/>
        </p:nvSpPr>
        <p:spPr>
          <a:xfrm>
            <a:off x="4648320" y="33526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>
            <a:off x="6095880" y="2971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 такое профсоюз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Verdana"/>
              </a:rPr>
              <a:t>Профсоюз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 - это добровольное общественное объединение граждан, связанных общими производственными, профессиональными  интересами по роду их деятельности, создаваемое в целях представительства и защиты их социально-трудовых прав и интересов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2800" spc="-1" strike="noStrike">
                <a:solidFill>
                  <a:srgbClr val="ff8d3e"/>
                </a:solidFill>
                <a:latin typeface="Verdana"/>
              </a:rPr>
              <a:t>История возникновения профсоюзов</a:t>
            </a:r>
            <a:br>
              <a:rPr sz="3200"/>
            </a:b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93000"/>
          </a:bodyPr>
          <a:p>
            <a:pPr marL="253440" indent="-253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нглия – 1762 год. Первый профсоюз «тред-юнион» создали хлопкопрядильщики Ланкашира Англии. Запрет деятельности профсоюзов до 1824 год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Франция – 1891 год. «Общества сопротивления». Запрет деятельности профсоюзов до 1884 год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ША – 1880 год. «Рыцари труда», тайная организация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ША – Чикаго. 1 мая 1886 года прошла всеобщая массовая стачка, в которой приняли участие более 40 тысяч человек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4 сентября – 7 октября 1905 года. Всероссийская конференция профсоюз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3440" indent="-253440">
              <a:spcBef>
                <a:spcPts val="249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919 год. Создана Международная организация труда (МОТ). С 1946 года стала специализированным агентством О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1:27:08Z</dcterms:created>
  <dc:creator>Ткачук Анна</dc:creator>
  <dc:description/>
  <dc:language>en-US</dc:language>
  <cp:lastModifiedBy>рахима</cp:lastModifiedBy>
  <dcterms:modified xsi:type="dcterms:W3CDTF">2018-11-30T10:36:40Z</dcterms:modified>
  <cp:revision>99</cp:revision>
  <dc:subject/>
  <dc:title>УРОК, КОТОРЫЙ ПОМОЖЕТ В ЖИЗНИ!</dc:title>
</cp:coreProperties>
</file>